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D81-B9AC-42E8-A381-5099D1B7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CA6-2609-4863-A58D-3089EFAF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538-D7CA-490C-88F3-3788F879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AE2-54F7-44E0-B649-EAEE9156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E940D-F300-46CB-B686-9A8B46E9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9A811-976C-478D-9980-EC45413D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4C000-F1E7-4477-8DB1-30970250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C81B2-230C-472C-A295-3A2851CB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2E942-F494-41AC-8D40-E34BA22A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B2BE1-DE66-406C-98F6-D37599A0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B34D3-C544-4175-AF20-550C4374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4FB-1320-4EC0-A1CA-B287C741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D2C02-1476-4911-B3A4-619C4EAF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F6803-2188-4A0F-90A6-4C57D97F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91383-7FA2-49D2-9311-6F0629A6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06677-D877-4065-A04A-DFEAE469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7F0CF-E862-48F4-9D55-24C1EF5B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CCE-C26F-47B8-A077-8D187FFF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4B7-5AD7-4155-8670-D86191CB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6D1-654B-4186-9C46-EBE162B8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BCB-5E6E-4F11-89C4-85F0266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712-1EE8-4DA1-BAE6-D3FA8AA9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475-A5EC-4AF6-9E56-1AD264D5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C8C-C19D-430E-9B16-F6815EF6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B2BD-BAAD-4C8E-BAB6-BC40CFA9F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015E-4C79-433F-9AC8-A831BD65CD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rman Melville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oby Di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can get nothing better out of the world, get a good dinner out of it, at lea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9" descr="mh9-sperm_whales_underwater_brandon_cole"/>
          <p:cNvPicPr/>
          <p:nvPr/>
        </p:nvPicPr>
        <p:blipFill>
          <a:blip r:embed="rId1"/>
          <a:stretch/>
        </p:blipFill>
        <p:spPr>
          <a:xfrm>
            <a:off x="1219320" y="2286000"/>
            <a:ext cx="6781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go…Final Journal 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ur reading, Captain Ahab gives a impassioned speech about the whale and convinces the crew to follow him on this mad quest for revenge, why do they go alo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o rational people follow irrational lead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 Citi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melville.org/hmquotes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kirjasto.sci.fi/melville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online-literature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school.discoveryeducation.com/lessonplans/programs/greatbooks-mobydick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irst Journal: Obsess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ve you ever been obsessed about someth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n define what obsession is to you or the difference between obsession and compulsi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uth Dakota Gem Ston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airburn Ag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erman Melvil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August 1, 1819 – September 28, 1891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hird of eight children of Allan and Maria Gansevoort Melvi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father died when Herman was 12 leaving the family in financial hard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orked as a surveyor for the Eerie canal and as a school teacher before becoming a cabin boy in 1939 and joining the whaler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cushn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January 3, 1841 in New Bedford Ma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years at sea are the basis for the novels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ype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mo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by Dic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lvill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847 Melville married Elisabeth Shaw, daughter of the chief justice of Massachuset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ree years in New York, he bought a farm, "Arrowhead", near Nathaniel Hawthorne's home at Pittsfield, Massachuset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of Melville's sources was an article by Jeremiah N. Reynolds, entitled 'Mocha Dick: Or, the White Whale of the Pacific' (1839). It told about an albino sperm whale, which was said to have sunk ships, drowned men, and harpooned many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wthorne encouraged him to chang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a story full of details about whaling, into an allegorical nove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lvill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lville'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as largely misunderstood and it sold only some 3,000 copies during his lifetime. Its original title wa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Wha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when it was published in London in October 185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891, Melville died never gaining the monetary or literary fame he thought he deserv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1920’s, Melville’s writing is re-discovered by literary scholars and he is finally recognized as one of America’s finest writ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 of Conflict in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Moby Dic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N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vs. S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M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Him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Socie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Go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ience of Confli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gelian Dialectic: Euripides and Olympus vs. Huma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ience: matter vs. anti-matter proton vs. elect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h: positive and negative inte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osophy: Ying and Yang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y: proletariat vs. bourgeoi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etarily: hard currency vs. fiat curr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ry: protagonist vs. antagon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4:45:26Z</dcterms:created>
  <dc:creator>home</dc:creator>
  <dc:description/>
  <dc:language>en-US</dc:language>
  <cp:lastModifiedBy>ITS</cp:lastModifiedBy>
  <dcterms:modified xsi:type="dcterms:W3CDTF">2009-04-07T00:41:52Z</dcterms:modified>
  <cp:revision>7</cp:revision>
  <dc:subject/>
  <dc:title>Herman Melville  Moby Dick</dc:title>
</cp:coreProperties>
</file>